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4134-AD6A-4524-9077-835C7B3F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the teacher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need to be taught how to save to their designated location and how to print only selected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 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4-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B55-54C5-492E-9FC3-55708730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CEF-DC15-42DB-B227-EEA6713F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C97-0B1B-4075-86A1-41F113D9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DBD-5AE4-41A2-80E4-F4D86229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341B-1BD7-4AB7-85EE-5D3C9F17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9FD3-EED3-4759-90B1-E8F5FFA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96F0-7066-435F-BC6E-A9E5F94B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365C-03CC-4906-A953-148A9483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D35-615D-490D-B097-76FB193D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D27A-F5B9-4A3B-8ED1-6F82343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29BA-A18B-4694-ACF2-4E74A83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D95-1553-4617-BF81-88EDE6A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40C8-8416-4278-AFD2-F0D624C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A74-0B55-43CF-B277-AA56A2D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64EE-7265-4F4F-8C00-8708E7D3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FA5D-4ED3-4716-829D-5DEF4122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A77C-7E11-4365-9A96-F38A29DB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2D5-5A40-48C2-A190-041984C0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7F9-DD3B-43EA-806C-0154504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8EC-9D11-491B-83D9-144F63F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25A-728C-4E82-8FFE-C365AFFB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ECC-D33D-4444-A749-29BBDFA7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E7A-6F4B-4E7F-9201-20AE0E7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F02-E886-4921-ABA6-4FE43F4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EA57-6CF4-4221-B86F-8F9834A57E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8B28-39E6-40B7-80C2-6CDABD2748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klcontractions.htm" TargetMode="External"/><Relationship Id="rId2" Type="http://schemas.openxmlformats.org/officeDocument/2006/relationships/hyperlink" Target="http://english-zone.com/spelling/cont-0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81080" y="1447920"/>
            <a:ext cx="647712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traction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37160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100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3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342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342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26668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4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52680" y="1371600"/>
            <a:ext cx="1447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19520"/>
            <a:ext cx="34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86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7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75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75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58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ll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572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23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35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35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235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1532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64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860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31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315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315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62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137160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07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73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73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05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206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820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5920" y="259092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43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943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43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230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305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305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29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365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7240" y="1523520"/>
            <a:ext cx="76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447920"/>
            <a:ext cx="21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43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57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574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059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52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29528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8765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273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734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734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814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956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355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52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52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1532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227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20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15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15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1532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94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58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05920" y="3962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295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295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295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208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18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33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244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44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444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2960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84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193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’n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05740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441972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’s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’d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05740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___________ go out to pla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                     isn’t                    can’t                    it’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58920" cy="128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32767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boy___________ eat his lunc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                     they’re                  don’t                 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449568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eff ___________ find the boo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sn’t                     I’m                    can’t                      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7769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____________  coming to our cla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                     isn’t                    won’t                  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Before you go, print slides 34 and 35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or more practice with contractions, click on the links below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anatee.k12.fl.us/sites/elementary/palmasola/klcontractions.ht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english-zone.com/spelling/cont-01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188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52880" y="1828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5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54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54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077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0592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9000" y="1371600"/>
            <a:ext cx="99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74320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2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225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225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5345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34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1371600"/>
            <a:ext cx="1218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24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624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6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3:43:34Z</dcterms:created>
  <dc:creator>Cathy Cunningham</dc:creator>
  <dc:description/>
  <dc:language>en-US</dc:language>
  <cp:lastModifiedBy>BCPS</cp:lastModifiedBy>
  <dcterms:modified xsi:type="dcterms:W3CDTF">2006-03-07T13:29:55Z</dcterms:modified>
  <cp:revision>30</cp:revision>
  <dc:subject>OIT</dc:subject>
  <dc:title>The Kite Contractions Resource</dc:title>
</cp:coreProperties>
</file>